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3C73-05AF-4C93-AD44-C9B2BCABC7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6AB-D716-46A4-9E99-A33994E2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F1C-8F48-4B18-B952-7586686B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855B-2DFC-44E6-A730-5BED0B44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F1F-75C4-42C9-B427-5544E0A1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435C-B696-46B5-B7CD-7AA7EE40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437B-85A7-4DBE-AEBE-42DA551C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0414-BB4C-4099-A2F3-3DC3AF79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7ECF-2CB9-45B6-9F44-01128319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631C-8575-4A9D-8B78-31DE1B8F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E969-B2AC-4B43-A9BC-B4C70FE5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FB05-8E03-4FB0-A356-CB0B97CB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4C3D-EE4C-474E-9A91-82A1414E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36D1-D84D-4500-82F8-946AE826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D212-03A4-4617-BB9C-B2737B60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AC62-278B-4882-A8D3-96972863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B667-CE72-475A-AC13-300A35A1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F36D-E86B-4B7D-9E57-7335A5B5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60F-4B3D-4DE7-8FC2-5C4F2504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3B0-6522-4DF7-B491-6466AA45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2F9-826C-4CCF-9653-BF752686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434-5977-43FF-9975-A961DFD0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5AD-0473-40DD-8923-8390C2D3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7168-EC6E-41EE-8C8B-405440BF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89A-BA05-415C-89AC-8B2F91B4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3838-E591-4E8F-9D85-4D0FEC9AB1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2A1C-9F67-4D03-9AD3-876CEFCCFE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star (our sun )is part of a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planet (earth) orbits a st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moon (our moon) orbits a planet (earth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Radio waves are detected by large curved dishes similar to the dish aerials in T.V.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One light year is the distance travelled by light in a ye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from the sun 8 minutes to get to the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4 light years for light to reach the nearest star (alpha centauri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100,000 light years to get to the edge of our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ere are two types of telescope ,the refractor and the reflecto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ractor works by light bending or refra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lector works by light refle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ahoma"/>
              </a:rPr>
              <a:t>The Refracting Telesc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1295280"/>
            <a:ext cx="891540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refracting telescope consi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of  two convex le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objective lens collects 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rom distant objects such a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planets and stars.  It forms an image of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eyepiece lens then magnifies this im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55760" y="2567160"/>
            <a:ext cx="4632480" cy="2560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Use can be made of  light ,radio and micro waves from the electromagnetic spectru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18:09Z</dcterms:modified>
  <cp:revision>32</cp:revision>
  <dc:subject/>
  <dc:title>basic space</dc:title>
</cp:coreProperties>
</file>